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64B-16A3-4337-9447-1A6E556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022-2FAD-4A1B-B306-D82A1FCD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FE8E7-4833-4474-B839-1962780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B530-0B80-4DB8-AEE6-924B4AA2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6C47-F39B-43E5-B016-81FAE0C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5E07-E4BF-46C0-A904-F953B8A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26745-654F-49CA-95E6-70D58C3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998A8-2732-4D90-AAEF-6AFAB95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82EC-D7F8-4ED8-993D-260933F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278A6-2859-4427-885B-9ECC0174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3A5D0-47E9-4876-8D49-D1B6C714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776A0-CC1E-4370-B058-82DA1BFE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BE7-9AF5-4335-B296-F968548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E3BF6-19AF-4203-A4C1-375BA6E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2C836-2E3B-46B6-A76F-300F66C6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CADB2-1E12-4E75-8E7C-CDE00C62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C9325-7574-4836-B627-7840BF0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AB6B9-C02C-484A-8E3E-54BEBD1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4E2F2-66B4-4D16-9BAE-5C52FE8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827FC-3295-48AC-A2AD-5D8AC57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E6D43-7E58-462C-AC09-C41FBFF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BDC2D-AF46-4AEB-8B4B-5A80926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7FD6E-6A3A-4702-A7AD-1A0B29CE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30F-9C39-4381-8F3B-C05E1AE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60F62-F908-4EE0-9848-1F2A5A8D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44145-EEDA-4D88-98E8-6413DD2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15EF-653F-4D1B-AE25-DAB7F37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56AF-5BAF-474E-8C8B-66D9532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2F06B-4FDA-429C-8552-F5BE6BD6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B4AC-10C7-49D3-9F31-0175035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2209F-E947-45B5-A46C-ABFEC71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9BC0-E10F-4AB7-8AE2-0E828CE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1590A-B2D9-4024-982F-AD32AF3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8AB7C-EA2A-459A-9E52-FA94AE0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A49-1B79-43A0-9723-1DA55E8F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59BE2-11ED-4B41-9EC8-D1D25B78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86F89-83FE-498D-8B13-89F5A548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7DBE-5519-41DC-A9CF-6E67A3BD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03830-7B79-413E-A722-21DC5D89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74AF-E564-4E8C-8E4C-3A9A5E3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817B-9EFD-4C9A-9FEB-D157266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4CF1-997A-409C-90DB-3440B63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F356-0D1E-4006-AE9E-F0D9BD47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1224F-6A99-4BB0-8EDB-5DFCBAEA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010D7-9530-4B2A-9AA6-D738A10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0C5D-7B47-40DA-BE2B-2CA0E0A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2DD73-3516-4A0D-96E7-9052E98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887CD-4036-4BBD-97B2-EACDE02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FC93F-6766-4E8C-A535-58FEC0B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F71DC-4C93-49CC-9EA9-A126249C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FC393-7A76-4B33-81BE-9CA765BF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28284-0337-43A9-ACE2-5E9BA56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1CD65-EED4-4340-96B5-935E59B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B30BD-9E80-45AB-B738-265A431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DC3BA-CA6D-4C50-8F4B-F4107DC5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35161-A288-4F4A-8681-E8EE163B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22EC-B21D-4E78-8DCE-EEFE4A73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6B81C-373D-43B5-A536-041EA54D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3C5A3-394C-49C3-AAA1-B7F8FED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FCE72-C7F6-4DBE-BA37-152E069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290A6-6BFC-405A-97E4-991CF9D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17FE5-D409-49A0-A086-09DB2F3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7F77C-B860-4ABB-9728-81A72670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1BCCE-E72A-4FF7-B1CC-101E2EA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11AEA-5D62-4811-9A5F-D11A8040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1BD61-3826-405C-9D05-00728AE1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7FBA8-097E-452E-88B4-CD3C836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0B6F-8622-46D5-88C0-F317468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F1119-415B-4408-8E31-09668D7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FE754-E2CD-4B29-B112-B070E06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6527C-E58D-446C-B40B-4FCE1612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6B9F7-2251-4C91-A286-757FA1B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97051-37E0-456F-AF3F-731DC8D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1286D-389D-4BC0-A4A9-B2A1467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16ADE-D8F1-4809-AE42-F182EF6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104EC-E13B-41B6-9F01-4F0793DE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BAE5E-2332-448A-B9E2-B5EEDE57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083FD-6302-4A9C-B2E9-56262B8B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A1BC-F447-4CEE-A259-3EE5594A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A34E2-57AA-4EA9-A11A-DED28BE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21792-B250-4B7A-8E84-AF0EB71E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FAD2B-4462-4F3E-AC1D-341ACB2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9A8AA-9087-4EA5-AB05-E3E9BC41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A7F39-573B-41CC-ADE5-F21A0A7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E018A-D539-4D70-9C61-178FBCF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2D6E0-0FFE-42C0-A5BA-D5689CF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AC010-D9D0-4CD2-95D1-68C74C2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9F42F-BF3D-4DFB-A0CE-D5B567B8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8792B-E987-4A11-A374-307D7F70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3EA-6700-44E9-8334-8042170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A638E-C235-4840-9A68-CD36E03F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8237F-AFFC-4EF5-916B-1195E17F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5E9F3-11F4-4F5E-BB8C-9E39FC6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D3A64-A4CF-4420-A047-C101F57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CA2B6-6CDD-41E1-A6A4-A92E5C9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8FBDE-427B-48E6-A9A9-80AC440E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5FED6-3E90-4384-966F-4AB96337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02147-69BF-493F-AF4D-FD0DE7F5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50D3E-3AA6-4CBD-A34D-6FB459D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63237-761A-4A47-AA16-B125D8D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2233-6557-4C24-8453-57373FB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0F5C0-FD73-46E0-85DD-FEC95A3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E7F62-15FF-486C-B1DA-FAFABCC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0B7BA-B1C3-432D-86E4-7FC7037D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D08C9-ECF3-42F2-B0ED-1FA176A2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D1285-E5E9-4CA1-8F4F-93103469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10121-26F4-43F4-B0F3-8344136E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C2B14-D28A-4534-8C4B-F5753E5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8CFB3-8EAC-4A3B-A16A-8E3CA62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DF585-6D3D-4AC0-8CE6-E2B498F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F659E-A619-478C-992B-18A922F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031-EFAD-4BDB-941D-2A6C628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2D92-9572-4F83-84F3-2039E46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C60E9-D1A1-4CC1-BE9A-15D36E8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F6483-C45B-4F5B-ABF6-34BED0C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8B2E3-54F1-4262-B10D-E5FC5DC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3C3E3-943E-42A2-8F68-72E60D83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1A62F-1B54-4E7B-A6A5-0E7D4BC1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174E9-1A1D-4B00-BFE2-F7DDB109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BBF67-1C88-4257-9496-8BB74CE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AE889-D366-4DF1-A614-051CEFF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12C29-C730-4B66-A59F-D245AAE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22558-79DB-4D76-B9AA-D8A831AD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38B-00DB-47CA-9D5C-69CFE35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25560-40F3-46E0-8481-E6BB71D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AC006-14E8-4031-8435-3386B7D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78C01-847D-495A-AEBE-D6D8D50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84C1A-5CE5-4C05-918B-E38C3684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66B44-7F18-41C6-B771-1E5FFB8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E1970-42F5-463F-9025-C8BF184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D1133-CA85-4FE3-B980-E3D01FB5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6285E-2D7C-48E5-A7A7-5DE27487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2DC02-8BDC-4FFB-ABDB-9DBB11AE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C81EA-4A1D-4090-A986-BA68453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485-0EF5-4ACA-82E1-48C88AB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C1160-F057-480B-8938-35E2D56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5B37F-8D72-45A1-BE83-6C412F4F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339FE-DC20-4D61-9B13-37EE9F4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92630-745E-47E8-B1E3-61DCA06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DEE04-B80C-4175-AFA3-A2DBB9C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0FEBF-CA0C-45C5-BBFF-53C1707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800B7-03EC-436E-9048-C0867B5C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A5D63-70D5-4A14-B74C-928D3FBD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362CD-2447-4D50-B7D2-4EF9076D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D83D2-DF6B-4916-ABBC-51B37790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4D6E-E3AE-4079-BDB1-99507C2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3CA7D-AE80-45E3-91B1-9EAB981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83D54-BAA6-4EF6-8A4C-D2052B8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87770-88BC-47BF-A0AB-BEC6864E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D7125-3B90-411E-BBCE-5A1699A6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35901-43EA-4BE2-9C61-3837526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9AB49-6D5A-4B72-B90C-2F13409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56F03-55F4-4745-BACE-A1A34C7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8B4A4-3E6B-4110-B5E5-BC091CC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7BC79-8D97-42BD-AA57-F85CD34B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F821A-406F-421A-AAA2-0FF0EFF7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620-BA7F-424B-8BDF-9080E42F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666B3-913B-4EF9-9A90-9F52079A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91F28-1E70-4688-8BE6-5C12DE8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ABA19-198F-4A79-88FF-36279CF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9D472-FA5A-4CD6-9A4E-0B8FF10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A96FF-39FF-4E3C-BD7F-387DA4E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4C11A-B9C6-486A-B7F2-84D4C3CB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D6C58-C1CB-4929-B6A1-2A938D3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60FA2-1A53-431A-A6BF-292BC96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11663-BDC1-4A77-A956-574FD42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9EA3A-1640-4AE3-B834-A3CE635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4AB4-EB26-4DA5-AF16-A7898534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2FF55-0EC9-4F7E-8588-96ABB39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3D284-5620-4A24-88FC-DEFE7848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0C60D-1869-49FA-9606-A79F5520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2859-4096-45B6-8380-AF6696F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69C9-3C8E-406B-833C-07881EA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A48A-BD17-4A36-8F72-8018E8D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B4AF-90CC-4E48-A6EF-D55F0B2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087-DD67-45E7-88AC-F6C9586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B91E-E749-4870-9D11-8FC5EA4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1E07-1616-4F65-9D84-AC4BBC2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2987-2CB3-4123-9777-9345EB1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75F2-18C7-4FA4-8EAD-A5B9538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8CC1-FF5A-4FC7-BDB6-A157C66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FA1D-D095-43D5-A77B-00992FEC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A2ED-82AB-4FB9-BDA1-AB14E517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155B-3869-4DE1-81B8-19432142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8D08-E5BD-4ECC-9B1A-5C1415B7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BC1A-4723-4B74-9F38-1572CA8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40F-1099-4CAC-A211-CD4D045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8656-3265-43B0-8EFE-38AB5F73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9F17-BC63-489E-855B-25717E2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C9A1-3ECF-44E5-82AB-A6B21EC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D1F0-232C-4DE9-926C-296329D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5D64-5BC1-4042-9DE9-16BB5C1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4F10-4ABA-4AC8-812C-3EB61C2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0722-45EA-4581-AE1F-A61693D3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0079-720B-48D5-884B-1933DC6D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7CC0-BF38-4F1E-928C-06A6F243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611F-5B18-4F30-88DF-7C4E345F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DDC-A30B-402C-B233-844CB88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BAA4-CDA3-40BD-A910-4500138F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74C3-E60F-4CA8-8CFE-087F46F3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5427-6B72-49A5-8480-4370C3C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E395-7E0A-4968-8F8F-DD11C29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AB66-7457-4E98-9656-ECDA6D5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7ED5-2047-4DC2-AF15-CF83248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BB23-A31E-4A31-9F16-B126006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A4FB-751F-40F6-8384-39DAE91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C981-D129-4983-BA0B-A611255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446A-171E-4D9F-9120-A2AD3B13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69B-FD71-4EF4-8447-40DB822D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7380-CD28-4C39-8DEA-4269B32C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1BE4-BCEE-4B35-9B32-410ED7EF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24FF-21A7-4A65-86C7-D59219D7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E130-A17F-498C-B570-9145418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B7D7-CB21-473A-B15C-F751990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E2FA-C894-4715-A09B-5DB59CE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A544E-700E-4931-B7E8-4BCAF4B4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0FBE4-F7B7-4F06-BC5A-A98C96B8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D7D8-8D51-46C3-8B68-E774025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DF19-409E-45A0-BD37-3F64196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9FB-ED18-4742-98C6-5260DE8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B7C9-C960-4A3B-AD5F-2F30512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BF6D-5B4F-4627-A742-968BED66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8540-CBB5-43D7-B4CB-98A92934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3CA6-C9CD-4311-8ACC-3965FCC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EA32-5802-4456-9658-0903755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AE87-F5B9-484A-963C-F21605C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D77E-933B-412E-80B7-3596841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1506-BE67-4E55-BC35-B51BAEF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3A57-3DB7-4F87-A457-FF33364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5C10-24B0-4AEC-92DA-3A13C5A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0A1-D18E-4D61-9BA8-A845567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F7EA-A19F-4B7B-B06F-EAA9FD45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43BD-734D-4173-8B8A-50B0921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5F9D-1522-4E81-96C6-B2A4C3BA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E9A2-D804-4437-BEF1-A8DE0640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8BA7-A78F-43E0-A9C0-1CCA000F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58C2D-8EB6-4F59-B795-67868804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A48E-7541-4C76-8683-EB8586FD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6861-590C-4027-B085-695AF80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2A7AF-9697-4920-B328-18BDB91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75C4-CB7B-40E5-BF32-FA064D7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549-A5D2-4F4E-9915-AE6198C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227C9-A0A7-49D6-8FAB-7BDE7E7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74F3-3119-44F1-AEE6-583A02C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B2C9A-37E0-40DC-92F2-B39E833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78B6-BED6-475B-B316-7F70000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0C686-5B35-4972-9574-2EA1BD61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F4F1-8C63-4DEB-8D7D-428F649F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3857-A6FC-4603-B710-1620D33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6F89-F981-491D-8570-86317D8C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2B82-F5CD-4BEA-8385-E432A348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EB02E-50F2-4A02-B41D-711482CA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233-D72E-4C27-BBB3-4E1F4BE39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C8D-74E9-4160-AA05-727037B19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D7D-1286-4F48-BE00-07FAE2D32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439D-6EAB-4A33-A863-DB8D1D76E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C7F-9702-497D-8060-F6C71AFCE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772-C598-478D-96CE-83B6C0216C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2F4-E700-494C-9264-054F80D82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15C-6531-46C3-A0C0-D6A4D1FEC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E885-AF80-4A53-85D9-7CDB3DAB4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710-EFE8-4C94-91A6-7F6141FEEF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B5A-08F8-4FD0-9B43-C911EE6B7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9FE-B625-4594-B14A-EA87912EB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AEF-0E5E-44F0-B909-BF0A7E5CF7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244-E7F2-4A81-A8C6-4551B0974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458-D95A-4E9C-BB73-79DC23B74D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392F-DB71-47E4-9233-62BC368D8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C2A-5C3F-41DC-A52E-E739676FA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004-3701-43E4-A5C4-E0FEF7CC3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78EB-4A3D-4455-A83D-9D5822A7B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4C9-14E6-4FA8-BFE7-182C6A6E8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8F12-DB08-4201-A35F-773914A8C1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860C-C712-474E-B6F5-9B5A6FDDF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180-927B-455B-B2A9-3170081B1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A90-D83F-417C-8305-34683999A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802-0794-41BD-A0A8-B2689359F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064-23C2-45BD-AE6C-65DC807FB0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3EF-E2C5-4DC7-9E3E-36B4B3B375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D12-0B4E-4B28-9B26-DF3B48457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247-E2D8-4330-AEC0-80CE63681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66E-B41D-43C4-8699-119F70A71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510-0920-49A7-9EFC-6BDF91284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19A2-B4B7-485E-906E-A22763F08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6C4-2B38-4710-9596-B63EC7190B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29C-51F2-4C3D-9278-BAA260213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78C9-47ED-4CF7-9B8D-E7791891D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718-83EB-406E-A9B1-6D66B86E8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FBA-C69E-488B-8834-A31768B4D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1A2C-EA70-4365-9E98-638F97B87C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294-35B2-4D68-B9DD-53F2EB4CF2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F2A-E641-4BB0-A351-4A7D79BF1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05120" y="3228840"/>
            <a:ext cx="35337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3280" y="1619280"/>
            <a:ext cx="8677440" cy="361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84440" y="26748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98720" y="269892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129280" y="27082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362640" y="26892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9640" y="4346640"/>
            <a:ext cx="1511280" cy="1098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663560" y="4033800"/>
            <a:ext cx="4604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411280" y="4356000"/>
            <a:ext cx="1511280" cy="109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780000" y="40244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643280" y="4356000"/>
            <a:ext cx="1511280" cy="1098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012000" y="400536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732720" y="4302000"/>
            <a:ext cx="1871640" cy="1098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369280" y="4014720"/>
            <a:ext cx="647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33200" y="1785960"/>
            <a:ext cx="8877600" cy="3286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611280" y="2482920"/>
            <a:ext cx="396072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39640" y="2771640"/>
            <a:ext cx="3961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39640" y="3357720"/>
            <a:ext cx="396108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640" y="3645000"/>
            <a:ext cx="460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95280" y="4230720"/>
            <a:ext cx="46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395280" y="4537080"/>
            <a:ext cx="46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395280" y="4840200"/>
            <a:ext cx="66978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614520" y="880920"/>
            <a:ext cx="7914960" cy="5096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116000" y="3621240"/>
            <a:ext cx="367200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116000" y="3924360"/>
            <a:ext cx="367200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116000" y="4508640"/>
            <a:ext cx="367200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367200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367200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1042920" y="5670720"/>
            <a:ext cx="367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57:0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